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323-35EC-4604-8EB9-DF27779D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6DB-9A0D-4627-87BF-7711AB2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98E-66D7-48DE-A590-E9F35303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ACC-5E52-4D7B-8DF8-0921E117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81CC-5AD3-4033-AAE9-61376A04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CBD-8A68-4BAC-B42F-374EDFCA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9761-D000-4E95-A4E0-50516DF7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1EE9-934B-485E-ADD2-E3E8E162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F59-81CD-471E-8538-824D58A2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9D0-DC2D-46A8-AE72-70015E9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68B0-86D3-48FB-8A1F-3404C12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EC4-EEBE-4E82-811B-BF869DE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EEFA-563A-4CA6-BB51-CE3BAF3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712A-1846-4E33-89B3-1979C7B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02F3-F04E-49AC-82C6-ECDF2819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C929-F551-40FA-A870-5198C207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67B5-3783-4540-9223-8A1DD815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3D8-32D8-4D09-B800-F6AD79BF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984-6457-4736-AC07-F5783C14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29E-D513-4AEE-9AF6-C61BA325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D80-CBE0-4D82-8C94-85CB102A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EF6-5126-4856-945F-697625C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FED-FF5A-46EB-B9F3-6992E34A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FA1-93DB-46D9-9E28-975F4C7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BECE-CDBD-4388-A612-9BC5C0376F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AEDB-987B-47CD-B234-72295DCEBB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ffffcc"/>
                </a:solidFill>
                <a:latin typeface="Arial"/>
              </a:rPr>
              <a:t>GRADINA VIRTUALA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Verdana"/>
              </a:rPr>
              <a:t>=IERBARUL MEU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Prof.Stela Negoescu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990800" cy="19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de-DE" sz="4400" spc="-1" strike="noStrike">
                <a:solidFill>
                  <a:srgbClr val="ffffcc"/>
                </a:solidFill>
                <a:latin typeface="Arial"/>
              </a:rPr>
              <a:t>MUSETELU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Matricaria Chamomilla,face parte din familia Compositae.Planta se cultiva pentru inflorescentele sale,cunoscute in farmacie sub denumirea de Flores chamomile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Creste si spontan pe langa drumuri,pajisti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Este o planta ierboasa ,anuala si infloreste din iulie pana in august.Intreaga planta de musetel emana o aroma placuta,caracte-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ristica,datorita uleiului volatil pe care il contine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Recoltatul florilor se face in mai multe etape,deoarece durata de inflorire este lunga.Recoltarea se face numai pe timp frumos,uscat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Verdana"/>
              </a:rPr>
              <a:t>Musetelul este recomandat pentru boli de stomac si diferite rani infectate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038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Arial"/>
              </a:rPr>
              <a:t>SUNATOAR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Hypericum perforatu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am.Hypericacea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Numita popular si pojarnita sau neruja,creste spontan in zonele deluroase si de munte pe pajistile insorit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Tulpinile sunt drepte cu frunze mici rotunjite iar inflorescentele sunt alcatuite din flori mici ,galbene cu stamine stralucitoar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folosita in afectiuni precum: alergii,eczeme si iritatii ale pielii,in afectiuni dentare,gastrice ,nervoas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IEDERA – Hedera heli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o planta cu tulpini si ramificatii lemnificate,sub-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tiri si lungi,care pot atarna, sau se fixeaza cu ajutorul radacinilor adventive de trunchiul copacilor sau de zidurile caselor vech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SOC = Sambucus nigra</a:t>
            </a:r>
            <a:br>
              <a:rPr sz="3200"/>
            </a:b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Fam.Caprifoliacea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Arbust cu crestere dreapta si viguroasa,ajunge pana la 5-7m inalti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comun in toata tara,crescand prin paduri,lunci si tufisur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Inflorescentele sunt mari,albe,puternic parfumat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folosit in tratarea multor boli:raceli,guturai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stari febrile,boli ale rinichilor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cure de slabire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ISOPUL-Hyssopus officinalis</a:t>
            </a:r>
            <a:br>
              <a:rPr sz="3200"/>
            </a:br>
            <a:r>
              <a:rPr b="0" lang="de-DE" sz="3200" spc="-1" strike="noStrike">
                <a:solidFill>
                  <a:srgbClr val="ffffcc"/>
                </a:solidFill>
                <a:latin typeface="Arial"/>
              </a:rPr>
              <a:t>Fam. Lamiacea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o planta perena care creste 20-50 cm,si are flori alastre-violacee,rosietice sau albe,in inflorescenta spiciform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planta medicinala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fiind folosita sub forma de ceaiuri dar si planta melifera si ornamentala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fiind cultivata pentru decorarea bordurilor de prin gradini si parcur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COADA SORICELULUI 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Achillea millefolium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Fam.Asteracea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planta nepretentioasa la conditiile de mediu,fiind intalnita in toate zonele din tara noastra:poieni,fanete,etc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lorile sunt albe sau trandafirii si au un parfum aromatic,acri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sor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folosita in tratamentul ciclului neregulat,amelioreaza starea femeilor aflate in menopauza,stimuleaza pofta de mancare.De asemenea este folosita in ulcere,hemo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ragii stomacale,balonari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istit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URZICA MOARTA</a:t>
            </a:r>
            <a:br>
              <a:rPr sz="2800"/>
            </a:b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Lamium album- Fam.Lamiacea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planta vivace,ierboasa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u tulpina din patru muchii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putin paroasa,cu frunze opus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ovale,dintate pe margini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lorile sunt mari,albe, cu cor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la tubuloasa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reste prin locuri umbroas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pe langa tufisuri,ziduri,gardu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si la margini de poieni de la campie pana in etajul subalpi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Ca planta medicinala,are un efect sedativ,emolient,expec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torant,diuretic,antidiarei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TRAISTA CIOBANULUI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Capsella bursa-pastoris </a:t>
            </a:r>
            <a:br>
              <a:rPr sz="2400"/>
            </a:br>
            <a:r>
              <a:rPr b="0" lang="de-DE" sz="2400" spc="-1" strike="noStrike">
                <a:solidFill>
                  <a:srgbClr val="ffffcc"/>
                </a:solidFill>
                <a:latin typeface="Arial"/>
              </a:rPr>
              <a:t>Fam.Brassicacea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planta anuala care apare primavara devrem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raspandita pe terenurile cultivate si necultivate pana in etajul subalpi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Florile sunt mici,asezate pe o codita lunga,iar fructul are forma triunghiulara asemana-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toare cu traista ciobanilo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Este o buruiana daunatoare semanaturilor dar ca planta medicinala are intrebuintari hemostatic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41:12Z</dcterms:created>
  <dc:creator>Peter</dc:creator>
  <dc:description/>
  <dc:language>en-US</dc:language>
  <cp:lastModifiedBy>Peter</cp:lastModifiedBy>
  <dcterms:modified xsi:type="dcterms:W3CDTF">2009-10-18T14:18:44Z</dcterms:modified>
  <cp:revision>10</cp:revision>
  <dc:subject/>
  <dc:title>GRADINA VIRTUALA</dc:title>
</cp:coreProperties>
</file>